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3E4A-E66D-4B74-9BFC-E43CE5AAD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98C0-863E-44F8-BF57-0BE6B595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610E24-6DA7-48E1-9007-D410F192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C4689D-0D53-449B-8965-DBBD480C3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770ED4-C27C-4CA5-94E7-03B1311B3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670E2A-25FD-458D-9C1E-C7040F8C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80B48E-9F21-4C36-A87E-D5C5E824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93DB2A-2294-4B39-AF6C-9DD450AA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9EFE1C-8CC8-421A-8951-A4E14F0B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27BA3E-7179-4465-AB25-99093EF00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CBF5A8-BE3B-468A-8549-0C42934AF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024B91-DCDE-4E38-998C-B18BB6F8E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D6EC-9FED-4872-9190-1811B73E6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EDC57F-5F9D-4C79-8642-FB4BC186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624EC9-B192-4E86-ADDB-5C3CCB4B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EF4766-2F6A-4C83-BDEA-72159582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B1D298-89E6-4898-9B54-488E4CCF1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68757A-0368-4C25-AF06-F386A1B4F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A926F9-A180-42C9-B4D8-68F5B886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E78629-214D-4ED3-951E-E1CF5A78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34A20F-78F9-48FE-A61D-24BEA0DA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911603-186A-444E-BEE6-1753552E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AA494C-7A20-4104-BF39-FFF5CC263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5BA3-406B-4346-A3EC-474729E66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0ACD05-C63A-4484-8A7D-2B9393B88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96D619-15E1-4505-9F25-973BF52C1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CA5C35-787A-48F6-ABED-FB3B29D4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AF55D8-EE69-42D7-A73D-B13B1EC7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17D62B-96FC-4F3A-B2E9-FEFFDAB9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C699A9-8831-41AE-86E5-B20F555A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2B3A5B-3082-4B56-B3CA-C1BD6534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63E004-749D-4B98-B22C-7B654E2A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D7F0B1-D334-4527-8047-99E6AC06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066BD3-07D7-47DA-BAE5-68C09D33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124A-73C3-479F-B057-92AE29B78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737894-7E12-4997-9B6C-E90C2CE93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58495-0AE3-4CAF-9C36-CDD95E01C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D3E50F-612D-4925-A1AC-C15B1421C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882441-37D3-48F8-9A31-83005E937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0F5CDC-9189-4E1C-BED9-AC35B68C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1FCD80-F5F6-4A7B-906E-71CCA9D4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32A9A3-0A95-473B-9ECE-DC82414C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C87593-89F5-4F45-A39A-E46BF558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C6DED9-6A20-4856-9569-30B87468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D2F9B1-3C39-4084-BD59-E2421C35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F625D-7FBC-4BB5-8589-2D80A9371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6BF8CF-AA9D-4417-854E-63465E4E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0AD465-6651-4463-949A-479E7446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C1CA6F-3339-47D5-85AB-00C6129B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712A93-3785-4413-9E54-4051EFFDB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0F000F-4CE3-4C4A-8CE8-BD94334E4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484BCA-695D-4EB9-9BB9-8EA04F5B4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8B65FC-E0F3-4F99-BE10-9EA09DA8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2B151F-0069-4F9F-AA52-E05B04A4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E70355-3608-40D4-96BF-D04D73A0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BCFD7A-6EAC-49BA-B0EA-518D5D4F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5785-3683-4921-AFB0-E30863F1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618A7B-26C3-4358-ABC0-2A5572D9B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EADD03-CC45-41AB-8C20-8A02B7C9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E3D695-611D-4924-A35D-174660A5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6F81B5-848B-42E3-AB45-EA42642D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A11A4E-B227-4964-BA9F-62FEB5C4B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C995B8-1F03-48F8-AFFF-A3489AD8F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351871-8D40-41EC-82AC-DE787ED71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D31158-F78F-4B9C-AD9F-7CF05ED2A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552F09-383E-4755-8323-6B44FFF0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8EFE29-ACAA-4EAA-BC1F-A2412AD8A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F3779-768F-48FB-AEC6-4F3F5D6A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B4AC2B-83A3-4A5A-B8DF-B188462F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572C91-091B-4216-AB5A-5EBD31EC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BD744C-DEA7-44A0-ADF0-06FFC4DF8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A76B02-4CCE-4F55-9C1D-CC787702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B34A79-5B11-48A5-B291-2E83E7FF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455C16-5C8F-4B67-85AF-12A85CEA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6D3472-14E7-4522-9D72-530E063E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D20065-418D-4F69-981A-9E68A115F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0B1855-219C-4854-9E0D-8A1891F9B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05B3B-AD32-4B6C-9FB5-839360F5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27D80-8A30-4B1B-A875-91524C3F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4B8B0-5806-4F7F-8800-059686DC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5AD4-DBEE-4302-93E4-B0FB52AB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D890F-F60A-4CF5-AB10-C14F6500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193D9-BAC4-452B-B328-4CF529BA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11C8E-E640-4CC2-96A0-2A681D10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AA348-5336-4DF6-952D-092F3ECFD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D3C0-BF1D-442A-AC3E-857B0A9DA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F0497-4157-4C5E-9DB0-25ABF841D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84AAA-3D19-453A-AA9B-8F392255E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4807C-387A-49CF-835B-9E7EB817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7C09A-611E-4449-952F-3216ECC3F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1A995-3DDC-4B29-B28F-BD4ED5B2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CFC8-35BA-45B0-8FC4-B143F84DB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509CB-7C6E-4EC1-AF8A-9F862D8F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D558D-2535-4886-9DB9-357E3F22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BF1C3-DE3F-4B12-A6C5-728C58A0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1C50F-D3DC-46DC-B473-76D966B0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70B30-C002-45DF-8B95-1CC911E6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373F0-3A38-4B72-8A65-0B119D4EF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A0888-9A66-4470-B7DD-22D017298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53C9C-0408-4491-876C-591EA88F7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CCEAD-B543-4CCC-92B2-8746A605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06716-762C-4554-95D5-D6CDCEAA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1E21-850A-447A-8E5D-8088E0491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2D4FB-58F3-4548-9E82-B095F15A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468CB-0828-415E-8F90-EDDDA3FA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058D6-87CF-4561-9557-3FAB70AD9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CC66F-06EE-4C3B-8B6D-14785DC3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35307-CFF4-401C-B00C-C1AA07A5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77358-7479-4385-BD93-58831A0B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29D60-F7DB-47F8-BFCE-85F4D6ECD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E6106-886B-4A38-A739-4679DED58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022A3-EEBC-4A95-985B-2D87FD23D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572EB-E5BF-4294-BE4B-366431059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7F26-D589-43B2-AFC5-CEB79B9A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1E9B7-0817-4756-8A07-65D9B23B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8DA3C-BECA-4DFF-8B90-D059F154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F37EC-ADFF-4BB7-826E-025EF8B7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A397F-287D-49AF-98A2-6B00F8754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90734-7B28-4416-BC9F-8704A0A9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464D1-E107-42B0-9C25-CC85342D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154EA-5A2F-4085-85DE-4CD0E79D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3CA70-7240-4BAF-98ED-4A04D3BE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BCA4C-1E9D-4883-B848-F78E43EB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8E96B-A952-4EB5-A167-12AF4DFC6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A7FC-08E4-47AE-AE1A-93E61C84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43FA8-3132-427D-906F-E6CB612F6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C88B3-236C-4E29-B474-9AED4E8C7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4653E-E475-4047-9357-DFAD1797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E2238-8697-4168-A4D6-8870F918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904BB-4884-42B8-93B8-59AE4284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D7EA3-AA31-4975-9E30-0A3C0FF2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F79E2-EAF2-492B-947C-09F24244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F5226-8DD4-4BF1-A20A-871EB1A7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ADDB7-7B67-46F4-A808-4CAFFF1F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D7C24-EF64-4E2A-A579-C3E3F92C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4C16-4260-4C0A-84D4-0CDC1016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27EFD-DDC1-4812-8E2D-E15EBFC1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60604-9D4E-427D-A317-5CB6368D5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70203-E130-468F-A78C-22F4F083E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63302-B253-4B93-88A4-8906C53FF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89C47-FA86-4C49-A243-74B1AA1A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BD6AF-905B-4BD2-82DE-EFC0409D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368CE-4B87-4F11-A488-B008CC2A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1E877-4E1C-45C2-8AF9-5E72285A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F2CF7-9606-44CB-9B67-A0073EC6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9E9AF-2BDE-42D8-B939-65480D0F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6CEF-E435-496B-9811-FA79DF8C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33E76-B40C-4693-90E1-31B122CB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BEAD8-9B0B-4503-8BE0-2DDE501B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BD16C-3C1F-4D11-83C4-D14D9AAB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D61AC-7C5C-40A6-92D1-A7362699B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B3AFD-77C8-43A5-8F27-134D0A1DE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91BF2-4A12-452E-BC1A-1297AED4A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859E8-A9F7-4EF0-B625-8F5E9694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D4285-45E0-42AF-A23B-E980BE5D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A6A61-51E8-4C9A-94FC-78442902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F4D51-8708-40BF-A0D0-F39418A0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7E02-40CE-4196-83AE-C6CF5BC5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EAE37-B721-43B2-8299-29045082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103F9-F98E-4262-80C7-A24BA66F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9571A-6323-4A0A-BA74-45A166DF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397BC-0D43-4477-AC4A-96B5B23B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4502A-563B-4384-B699-10972D9DA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8A35B-68DC-4835-B17B-92593D15F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D37BC-CCD2-447B-8994-7AFDA44C8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3FB6F8-9F76-4EF6-BBCE-815A91BB7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ED76CC-E3A5-4D3B-9C35-A4EE35C1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9329E2-D884-47DC-8EC7-94943EDD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1825-EBD2-4234-86AF-82035C4A50F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4CA1-3B8E-42AE-AEC6-ABC19C47808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EF02-C091-4BDF-8044-81D36354F8B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0D7B1-939E-46D1-842A-43120633884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83F3-DA6D-4BEC-B1BD-90EA036CCD8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9D2A-7728-495A-A9F9-CF9062EA76F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25FA-3648-4A5B-9E1A-02919A69B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87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119C-1BF8-4DFD-8AA0-02F10D0252F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4FE79-4FDA-4C20-8199-04BE72B7FEB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C143-0338-49CC-9D18-5D21248300F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AC85-E6A8-48CB-994B-41F6B26A6B2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63DC-4D5B-424A-93C3-DED0BD55369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08F3-6272-4CB8-A4ED-352A766A30E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22F3C-7D99-4BB9-8FA8-7C471533C71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78840"/>
            <a:ext cx="822960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66"/>
                </a:solidFill>
                <a:latin typeface="Garamond"/>
              </a:rPr>
              <a:t>Me llamo __________   </a:t>
            </a:r>
            <a:r>
              <a:rPr b="0" lang="en-US" sz="3200" spc="-1" strike="noStrike">
                <a:solidFill>
                  <a:srgbClr val="999966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999966"/>
                </a:solidFill>
                <a:latin typeface="Garamond"/>
              </a:rPr>
              <a:t>Clase 801</a:t>
            </a:r>
            <a:br>
              <a:rPr sz="3200"/>
            </a:br>
            <a:r>
              <a:rPr b="0" lang="en-US" sz="3200" spc="-1" strike="noStrike">
                <a:solidFill>
                  <a:srgbClr val="999966"/>
                </a:solidFill>
                <a:latin typeface="Garamond"/>
              </a:rPr>
              <a:t>La fecha es el 10 de noviembre del 2014</a:t>
            </a:r>
            <a:endParaRPr b="0" lang="en-US" sz="32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Verdana"/>
              </a:rPr>
              <a:t>Propósito # 24: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Comprendes los verbos de cambio radical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Verdana"/>
              </a:rPr>
              <a:t>Actividad Inicial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juga los verbos de cambio radic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84" name=""/>
          <p:cNvGraphicFramePr/>
          <p:nvPr/>
        </p:nvGraphicFramePr>
        <p:xfrm>
          <a:off x="533520" y="2971800"/>
          <a:ext cx="8381880" cy="1482840"/>
        </p:xfrm>
        <a:graphic>
          <a:graphicData uri="http://schemas.openxmlformats.org/drawingml/2006/table">
            <a:tbl>
              <a:tblPr/>
              <a:tblGrid>
                <a:gridCol w="1422360"/>
                <a:gridCol w="2463840"/>
                <a:gridCol w="1981080"/>
                <a:gridCol w="2514600"/>
              </a:tblGrid>
              <a:tr h="4050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ensar 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to thi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sot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b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osot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Él ella U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los Ellas U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5" name=""/>
          <p:cNvGraphicFramePr/>
          <p:nvPr/>
        </p:nvGraphicFramePr>
        <p:xfrm>
          <a:off x="533520" y="4765680"/>
          <a:ext cx="8381880" cy="1482840"/>
        </p:xfrm>
        <a:graphic>
          <a:graphicData uri="http://schemas.openxmlformats.org/drawingml/2006/table">
            <a:tbl>
              <a:tblPr/>
              <a:tblGrid>
                <a:gridCol w="1422360"/>
                <a:gridCol w="2463840"/>
                <a:gridCol w="1981080"/>
                <a:gridCol w="2514600"/>
              </a:tblGrid>
              <a:tr h="4050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entir 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to li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sot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b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osot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Él ella U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los Ellas U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ocabulario nue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4" descr=""/>
          <p:cNvPicPr/>
          <p:nvPr/>
        </p:nvPicPr>
        <p:blipFill>
          <a:blip r:embed="rId1"/>
          <a:stretch/>
        </p:blipFill>
        <p:spPr>
          <a:xfrm>
            <a:off x="781200" y="1752480"/>
            <a:ext cx="2266920" cy="201960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5" descr=""/>
          <p:cNvPicPr/>
          <p:nvPr/>
        </p:nvPicPr>
        <p:blipFill>
          <a:blip r:embed="rId2"/>
          <a:stretch/>
        </p:blipFill>
        <p:spPr>
          <a:xfrm>
            <a:off x="3876840" y="1295280"/>
            <a:ext cx="2066760" cy="221004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6" descr=""/>
          <p:cNvPicPr/>
          <p:nvPr/>
        </p:nvPicPr>
        <p:blipFill>
          <a:blip r:embed="rId3"/>
          <a:stretch/>
        </p:blipFill>
        <p:spPr>
          <a:xfrm>
            <a:off x="228600" y="4267080"/>
            <a:ext cx="1492200" cy="160992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7" descr=""/>
          <p:cNvPicPr/>
          <p:nvPr/>
        </p:nvPicPr>
        <p:blipFill>
          <a:blip r:embed="rId4"/>
          <a:stretch/>
        </p:blipFill>
        <p:spPr>
          <a:xfrm>
            <a:off x="2209680" y="4191120"/>
            <a:ext cx="1244880" cy="14666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5"/>
          <a:stretch/>
        </p:blipFill>
        <p:spPr>
          <a:xfrm>
            <a:off x="5486400" y="3886200"/>
            <a:ext cx="2590920" cy="257796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9" descr=""/>
          <p:cNvPicPr/>
          <p:nvPr/>
        </p:nvPicPr>
        <p:blipFill>
          <a:blip r:embed="rId6"/>
          <a:stretch/>
        </p:blipFill>
        <p:spPr>
          <a:xfrm>
            <a:off x="7010280" y="304920"/>
            <a:ext cx="1749600" cy="289548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10"/>
          <p:cNvSpPr/>
          <p:nvPr/>
        </p:nvSpPr>
        <p:spPr>
          <a:xfrm>
            <a:off x="228600" y="10969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8000"/>
                </a:solidFill>
                <a:latin typeface="Arial"/>
              </a:rPr>
              <a:t>El béisbo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Text Box 11"/>
          <p:cNvSpPr/>
          <p:nvPr/>
        </p:nvSpPr>
        <p:spPr>
          <a:xfrm>
            <a:off x="0" y="37339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 campo de béisb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Text Box 12"/>
          <p:cNvSpPr/>
          <p:nvPr/>
        </p:nvSpPr>
        <p:spPr>
          <a:xfrm>
            <a:off x="3962520" y="3352680"/>
            <a:ext cx="30477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/ la píc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/ la lanzador(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Text Box 13"/>
          <p:cNvSpPr/>
          <p:nvPr/>
        </p:nvSpPr>
        <p:spPr>
          <a:xfrm>
            <a:off x="6095880" y="312408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/ la jardinero/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Text Box 14"/>
          <p:cNvSpPr/>
          <p:nvPr/>
        </p:nvSpPr>
        <p:spPr>
          <a:xfrm>
            <a:off x="7010280" y="5943600"/>
            <a:ext cx="20638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El/ la bateador(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Line 15"/>
          <p:cNvSpPr/>
          <p:nvPr/>
        </p:nvSpPr>
        <p:spPr>
          <a:xfrm>
            <a:off x="7696080" y="4800600"/>
            <a:ext cx="9907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Line 16"/>
          <p:cNvSpPr/>
          <p:nvPr/>
        </p:nvSpPr>
        <p:spPr>
          <a:xfrm flipH="1">
            <a:off x="556236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Line 17"/>
          <p:cNvSpPr/>
          <p:nvPr/>
        </p:nvSpPr>
        <p:spPr>
          <a:xfrm flipH="1">
            <a:off x="5562360" y="5715000"/>
            <a:ext cx="1066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Text Box 18"/>
          <p:cNvSpPr/>
          <p:nvPr/>
        </p:nvSpPr>
        <p:spPr>
          <a:xfrm>
            <a:off x="3443400" y="4572000"/>
            <a:ext cx="273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/la cátc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/la receptor/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Text Box 19"/>
          <p:cNvSpPr/>
          <p:nvPr/>
        </p:nvSpPr>
        <p:spPr>
          <a:xfrm>
            <a:off x="3963600" y="5638680"/>
            <a:ext cx="17611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La b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 platill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Text Box 20"/>
          <p:cNvSpPr/>
          <p:nvPr/>
        </p:nvSpPr>
        <p:spPr>
          <a:xfrm>
            <a:off x="479880" y="541008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 b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Text Box 21"/>
          <p:cNvSpPr/>
          <p:nvPr/>
        </p:nvSpPr>
        <p:spPr>
          <a:xfrm>
            <a:off x="1984320" y="5486400"/>
            <a:ext cx="17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 gua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5" name="Picture 22" descr=""/>
          <p:cNvPicPr/>
          <p:nvPr/>
        </p:nvPicPr>
        <p:blipFill>
          <a:blip r:embed="rId7"/>
          <a:stretch/>
        </p:blipFill>
        <p:spPr>
          <a:xfrm>
            <a:off x="1905120" y="6058080"/>
            <a:ext cx="914400" cy="723600"/>
          </a:xfrm>
          <a:prstGeom prst="rect">
            <a:avLst/>
          </a:prstGeom>
          <a:ln w="0">
            <a:noFill/>
          </a:ln>
        </p:spPr>
      </p:pic>
      <p:sp>
        <p:nvSpPr>
          <p:cNvPr id="606" name="Text Box 24"/>
          <p:cNvSpPr/>
          <p:nvPr/>
        </p:nvSpPr>
        <p:spPr>
          <a:xfrm>
            <a:off x="79560" y="6110280"/>
            <a:ext cx="17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La pelo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Text Box 13"/>
          <p:cNvSpPr/>
          <p:nvPr/>
        </p:nvSpPr>
        <p:spPr>
          <a:xfrm>
            <a:off x="5257800" y="14842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/ l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beisbolis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380880" y="5532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0099"/>
                </a:solidFill>
                <a:latin typeface="Arial"/>
              </a:rPr>
              <a:t>entr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4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1905120" cy="176220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5" descr=""/>
          <p:cNvPicPr/>
          <p:nvPr/>
        </p:nvPicPr>
        <p:blipFill>
          <a:blip r:embed="rId2"/>
          <a:stretch/>
        </p:blipFill>
        <p:spPr>
          <a:xfrm>
            <a:off x="3048120" y="152280"/>
            <a:ext cx="3276360" cy="327672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6" descr=""/>
          <p:cNvPicPr/>
          <p:nvPr/>
        </p:nvPicPr>
        <p:blipFill>
          <a:blip r:embed="rId3"/>
          <a:stretch/>
        </p:blipFill>
        <p:spPr>
          <a:xfrm>
            <a:off x="3657600" y="2971800"/>
            <a:ext cx="1866960" cy="190512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7" descr=""/>
          <p:cNvPicPr/>
          <p:nvPr/>
        </p:nvPicPr>
        <p:blipFill>
          <a:blip r:embed="rId4"/>
          <a:stretch/>
        </p:blipFill>
        <p:spPr>
          <a:xfrm>
            <a:off x="6324480" y="609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8" descr=""/>
          <p:cNvPicPr/>
          <p:nvPr/>
        </p:nvPicPr>
        <p:blipFill>
          <a:blip r:embed="rId5"/>
          <a:stretch/>
        </p:blipFill>
        <p:spPr>
          <a:xfrm>
            <a:off x="609480" y="3048120"/>
            <a:ext cx="1752840" cy="175248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9"/>
          <p:cNvSpPr/>
          <p:nvPr/>
        </p:nvSpPr>
        <p:spPr>
          <a:xfrm>
            <a:off x="382320" y="236232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Arial"/>
              </a:rPr>
              <a:t>cor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Text Box 10"/>
          <p:cNvSpPr/>
          <p:nvPr/>
        </p:nvSpPr>
        <p:spPr>
          <a:xfrm>
            <a:off x="3886200" y="304920"/>
            <a:ext cx="139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Arial"/>
              </a:rPr>
              <a:t>atrap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Text Box 11"/>
          <p:cNvSpPr/>
          <p:nvPr/>
        </p:nvSpPr>
        <p:spPr>
          <a:xfrm>
            <a:off x="6935760" y="251460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Arial"/>
              </a:rPr>
              <a:t>lanz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Text Box 12"/>
          <p:cNvSpPr/>
          <p:nvPr/>
        </p:nvSpPr>
        <p:spPr>
          <a:xfrm>
            <a:off x="612000" y="4738680"/>
            <a:ext cx="12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Arial"/>
              </a:rPr>
              <a:t>bat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Text Box 13"/>
          <p:cNvSpPr/>
          <p:nvPr/>
        </p:nvSpPr>
        <p:spPr>
          <a:xfrm>
            <a:off x="5413680" y="3809880"/>
            <a:ext cx="148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Arial"/>
              </a:rPr>
              <a:t>Jonró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Text Box 14"/>
          <p:cNvSpPr/>
          <p:nvPr/>
        </p:nvSpPr>
        <p:spPr>
          <a:xfrm>
            <a:off x="2822400" y="5562720"/>
            <a:ext cx="15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ing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El basquetbol / El balonce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4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2743200" cy="214308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5" descr=""/>
          <p:cNvPicPr/>
          <p:nvPr/>
        </p:nvPicPr>
        <p:blipFill>
          <a:blip r:embed="rId2"/>
          <a:stretch/>
        </p:blipFill>
        <p:spPr>
          <a:xfrm>
            <a:off x="5791320" y="45720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7" descr=""/>
          <p:cNvPicPr/>
          <p:nvPr/>
        </p:nvPicPr>
        <p:blipFill>
          <a:blip r:embed="rId3"/>
          <a:stretch/>
        </p:blipFill>
        <p:spPr>
          <a:xfrm>
            <a:off x="1295280" y="36576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8" descr=""/>
          <p:cNvPicPr/>
          <p:nvPr/>
        </p:nvPicPr>
        <p:blipFill>
          <a:blip r:embed="rId4"/>
          <a:stretch/>
        </p:blipFill>
        <p:spPr>
          <a:xfrm>
            <a:off x="6400800" y="3429000"/>
            <a:ext cx="1847880" cy="2467080"/>
          </a:xfrm>
          <a:prstGeom prst="rect">
            <a:avLst/>
          </a:prstGeom>
          <a:ln w="0">
            <a:noFill/>
          </a:ln>
        </p:spPr>
      </p:pic>
      <p:sp>
        <p:nvSpPr>
          <p:cNvPr id="625" name="Text Box 9"/>
          <p:cNvSpPr/>
          <p:nvPr/>
        </p:nvSpPr>
        <p:spPr>
          <a:xfrm>
            <a:off x="152280" y="27432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La cancha de basquetb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Line 10"/>
          <p:cNvSpPr/>
          <p:nvPr/>
        </p:nvSpPr>
        <p:spPr>
          <a:xfrm flipH="1">
            <a:off x="6553080" y="2895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Text Box 11"/>
          <p:cNvSpPr/>
          <p:nvPr/>
        </p:nvSpPr>
        <p:spPr>
          <a:xfrm>
            <a:off x="3962520" y="129528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 ces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La canas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Text Box 12"/>
          <p:cNvSpPr/>
          <p:nvPr/>
        </p:nvSpPr>
        <p:spPr>
          <a:xfrm>
            <a:off x="5334120" y="25909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La 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Text Box 13"/>
          <p:cNvSpPr/>
          <p:nvPr/>
        </p:nvSpPr>
        <p:spPr>
          <a:xfrm>
            <a:off x="1295280" y="5791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 bal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Text Box 14"/>
          <p:cNvSpPr/>
          <p:nvPr/>
        </p:nvSpPr>
        <p:spPr>
          <a:xfrm>
            <a:off x="6400800" y="60199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 trofe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/>
          </p:nvPr>
        </p:nvSpPr>
        <p:spPr>
          <a:xfrm>
            <a:off x="3733560" y="4266720"/>
            <a:ext cx="51814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Ga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Campe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Cuartos / Tiemp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4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1827360" cy="236232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5" descr=""/>
          <p:cNvPicPr/>
          <p:nvPr/>
        </p:nvPicPr>
        <p:blipFill>
          <a:blip r:embed="rId2"/>
          <a:stretch/>
        </p:blipFill>
        <p:spPr>
          <a:xfrm>
            <a:off x="6553080" y="457200"/>
            <a:ext cx="1667160" cy="275256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6" descr=""/>
          <p:cNvPicPr/>
          <p:nvPr/>
        </p:nvPicPr>
        <p:blipFill>
          <a:blip r:embed="rId3"/>
          <a:stretch/>
        </p:blipFill>
        <p:spPr>
          <a:xfrm>
            <a:off x="3124080" y="762120"/>
            <a:ext cx="2543400" cy="180000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7" descr=""/>
          <p:cNvPicPr/>
          <p:nvPr/>
        </p:nvPicPr>
        <p:blipFill>
          <a:blip r:embed="rId4"/>
          <a:stretch/>
        </p:blipFill>
        <p:spPr>
          <a:xfrm>
            <a:off x="685800" y="3657600"/>
            <a:ext cx="1905120" cy="2400480"/>
          </a:xfrm>
          <a:prstGeom prst="rect">
            <a:avLst/>
          </a:prstGeom>
          <a:ln w="0">
            <a:noFill/>
          </a:ln>
        </p:spPr>
      </p:pic>
      <p:sp>
        <p:nvSpPr>
          <p:cNvPr id="636" name="Text Box 8"/>
          <p:cNvSpPr/>
          <p:nvPr/>
        </p:nvSpPr>
        <p:spPr>
          <a:xfrm>
            <a:off x="685800" y="274320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Arial"/>
              </a:rPr>
              <a:t>Dribl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cc0099"/>
                </a:solidFill>
                <a:latin typeface="Arial"/>
              </a:rPr>
              <a:t>(con el balon)</a:t>
            </a:r>
            <a:r>
              <a:rPr b="1" lang="es-ES_tradnl" sz="28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Text Box 9"/>
          <p:cNvSpPr/>
          <p:nvPr/>
        </p:nvSpPr>
        <p:spPr>
          <a:xfrm>
            <a:off x="3657600" y="27432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Arial"/>
              </a:rPr>
              <a:t>Pasa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Text Box 10"/>
          <p:cNvSpPr/>
          <p:nvPr/>
        </p:nvSpPr>
        <p:spPr>
          <a:xfrm>
            <a:off x="6781680" y="31384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Arial"/>
              </a:rPr>
              <a:t>Encesta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Text Box 11"/>
          <p:cNvSpPr/>
          <p:nvPr/>
        </p:nvSpPr>
        <p:spPr>
          <a:xfrm>
            <a:off x="914400" y="594360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Arial"/>
              </a:rPr>
              <a:t>Tir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cc0099"/>
                </a:solidFill>
                <a:latin typeface="Arial"/>
              </a:rPr>
              <a:t>(el balon)</a:t>
            </a:r>
            <a:r>
              <a:rPr b="1" lang="es-ES_tradnl" sz="28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Text Box 12"/>
          <p:cNvSpPr/>
          <p:nvPr/>
        </p:nvSpPr>
        <p:spPr>
          <a:xfrm>
            <a:off x="5562720" y="42670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o w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Text Box 13"/>
          <p:cNvSpPr/>
          <p:nvPr/>
        </p:nvSpPr>
        <p:spPr>
          <a:xfrm>
            <a:off x="6553080" y="49528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hamp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Text Box 14"/>
          <p:cNvSpPr/>
          <p:nvPr/>
        </p:nvSpPr>
        <p:spPr>
          <a:xfrm>
            <a:off x="6858000" y="61102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uar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ext Box 10"/>
          <p:cNvSpPr/>
          <p:nvPr/>
        </p:nvSpPr>
        <p:spPr>
          <a:xfrm>
            <a:off x="228600" y="3049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8000"/>
                </a:solidFill>
                <a:latin typeface="Arial"/>
              </a:rPr>
              <a:t>El ten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4" name="Picture 2" descr="https://encrypted-tbn3.gstatic.com/images?q=tbn:ANd9GcQePg8yhkFyzQvl1_UtXvjMlPccgMsUwpQSA4Ri1kRfTSfhtaW2"/>
          <p:cNvPicPr/>
          <p:nvPr/>
        </p:nvPicPr>
        <p:blipFill>
          <a:blip r:embed="rId1"/>
          <a:stretch/>
        </p:blipFill>
        <p:spPr>
          <a:xfrm>
            <a:off x="0" y="925560"/>
            <a:ext cx="2057400" cy="194616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6" descr="http://www.costadelsol-holidays.com/userfiles/images/sport/tennis_court.jpg"/>
          <p:cNvPicPr/>
          <p:nvPr/>
        </p:nvPicPr>
        <p:blipFill>
          <a:blip r:embed="rId2"/>
          <a:stretch/>
        </p:blipFill>
        <p:spPr>
          <a:xfrm>
            <a:off x="4343400" y="298440"/>
            <a:ext cx="5448240" cy="37432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4" descr="http://classroomclipart.com/images/gallery/Clipart/Sports/Tennis_Clipart/TN_girl_playing_tennis_04.jpg"/>
          <p:cNvPicPr/>
          <p:nvPr/>
        </p:nvPicPr>
        <p:blipFill>
          <a:blip r:embed="rId3"/>
          <a:stretch/>
        </p:blipFill>
        <p:spPr>
          <a:xfrm>
            <a:off x="2057400" y="685800"/>
            <a:ext cx="2293920" cy="1871640"/>
          </a:xfrm>
          <a:prstGeom prst="rect">
            <a:avLst/>
          </a:prstGeom>
          <a:ln w="0">
            <a:noFill/>
          </a:ln>
        </p:spPr>
      </p:pic>
      <p:sp>
        <p:nvSpPr>
          <p:cNvPr id="647" name="Rectangle 3"/>
          <p:cNvSpPr/>
          <p:nvPr/>
        </p:nvSpPr>
        <p:spPr>
          <a:xfrm>
            <a:off x="49320" y="3733920"/>
            <a:ext cx="51814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Golp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evolv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ndividu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ob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or encima de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ervi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Text Box 9"/>
          <p:cNvSpPr/>
          <p:nvPr/>
        </p:nvSpPr>
        <p:spPr>
          <a:xfrm>
            <a:off x="1509840" y="2514600"/>
            <a:ext cx="32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El/ la tenis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Text Box 9"/>
          <p:cNvSpPr/>
          <p:nvPr/>
        </p:nvSpPr>
        <p:spPr>
          <a:xfrm>
            <a:off x="5396040" y="7452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La cancha de ten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650" name="Straight Arrow Connector 5"/>
          <p:cNvCxnSpPr>
            <a:endCxn id="651" idx="2"/>
          </p:cNvCxnSpPr>
          <p:nvPr/>
        </p:nvCxnSpPr>
        <p:spPr>
          <a:xfrm flipH="1" flipV="1">
            <a:off x="5181120" y="1056600"/>
            <a:ext cx="457920" cy="391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1" name="Text Box 9"/>
          <p:cNvSpPr/>
          <p:nvPr/>
        </p:nvSpPr>
        <p:spPr>
          <a:xfrm>
            <a:off x="4419720" y="5335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La 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652" name="Straight Arrow Connector 12"/>
          <p:cNvCxnSpPr/>
          <p:nvPr/>
        </p:nvCxnSpPr>
        <p:spPr>
          <a:xfrm flipH="1">
            <a:off x="4952520" y="3495240"/>
            <a:ext cx="99144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3" name="Text Box 9"/>
          <p:cNvSpPr/>
          <p:nvPr/>
        </p:nvSpPr>
        <p:spPr>
          <a:xfrm>
            <a:off x="3733920" y="2971800"/>
            <a:ext cx="175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La pelota de teni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654" name="Straight Arrow Connector 15"/>
          <p:cNvCxnSpPr/>
          <p:nvPr/>
        </p:nvCxnSpPr>
        <p:spPr>
          <a:xfrm>
            <a:off x="7067520" y="3089160"/>
            <a:ext cx="705240" cy="7977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5" name="Text Box 9"/>
          <p:cNvSpPr/>
          <p:nvPr/>
        </p:nvSpPr>
        <p:spPr>
          <a:xfrm>
            <a:off x="6470640" y="3781440"/>
            <a:ext cx="244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La raque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Text Box 12"/>
          <p:cNvSpPr/>
          <p:nvPr/>
        </p:nvSpPr>
        <p:spPr>
          <a:xfrm>
            <a:off x="2063880" y="3747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o h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Text Box 12"/>
          <p:cNvSpPr/>
          <p:nvPr/>
        </p:nvSpPr>
        <p:spPr>
          <a:xfrm>
            <a:off x="2057400" y="4267080"/>
            <a:ext cx="291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(o-&gt;ue)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o retur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Text Box 12"/>
          <p:cNvSpPr/>
          <p:nvPr/>
        </p:nvSpPr>
        <p:spPr>
          <a:xfrm>
            <a:off x="2819520" y="4809960"/>
            <a:ext cx="26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ndividu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Text Box 12"/>
          <p:cNvSpPr/>
          <p:nvPr/>
        </p:nvSpPr>
        <p:spPr>
          <a:xfrm>
            <a:off x="1873080" y="529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oub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Text Box 12"/>
          <p:cNvSpPr/>
          <p:nvPr/>
        </p:nvSpPr>
        <p:spPr>
          <a:xfrm>
            <a:off x="3276720" y="5867280"/>
            <a:ext cx="32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ver the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Text Box 12"/>
          <p:cNvSpPr/>
          <p:nvPr/>
        </p:nvSpPr>
        <p:spPr>
          <a:xfrm>
            <a:off x="1676520" y="6324480"/>
            <a:ext cx="32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(e-&gt;i)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o ser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Garamond"/>
              </a:rPr>
              <a:t>Tarea # 24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leta la hoja VOCABULARIO 2: DEPOR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00:31:41Z</dcterms:created>
  <dc:creator>Helen Zumaeta</dc:creator>
  <dc:description/>
  <dc:language>en-US</dc:language>
  <cp:lastModifiedBy>Helen Zumaeta</cp:lastModifiedBy>
  <cp:lastPrinted>2014-11-10T21:05:49Z</cp:lastPrinted>
  <dcterms:modified xsi:type="dcterms:W3CDTF">2014-11-10T22:01:02Z</dcterms:modified>
  <cp:revision>21</cp:revision>
  <dc:subject/>
  <dc:title>Me llamo __________   Clase 7IM La fecha es el 2 de diciembre del 2010</dc:title>
</cp:coreProperties>
</file>